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6DE-E075-4F55-8F09-6395BE66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F94-4DDD-4FE5-950A-7972C60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EF7-F747-4865-8CD4-9BEB1B0F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A31-9E89-4E95-9926-7D0C2C4D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B34-522E-4D7E-A8AE-B9DB3EB0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E9D-B842-4024-89D3-99A0F02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581C-DF12-4DAD-B180-6F402A4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BD6-0494-46EA-A869-3361981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0EB6-3E07-4B01-A937-28AA5B1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263-08C6-4E74-BF15-261FB79F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090A-2464-48F3-A309-D87111D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599-EF9F-4285-917C-1F9B7C5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15EB-0979-4DCD-89A0-B84EF49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FA8B-8ACC-4BBE-82C4-4337261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EB67-4050-453D-B137-243DA45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72FF-96FD-4CE2-B068-C4BE6E1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B82D-9C98-4168-B59C-B4F5CD5D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C8B0-45B7-4848-BC47-68A94ED3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2E73-55BF-4C29-82AC-5A7A8185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1B00-BE32-4BEA-85FC-54F05978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1AAA-D90D-457A-967A-069D9EA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9909-73C9-447E-A1E7-25BC7BCD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BAC-93D4-400C-B58C-F4EC19D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7BE8-2A92-40F8-A7EA-90851923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5E27-6FF9-4218-A0CF-4592519D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486D-6612-4997-948F-C176F9A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F60B-E09D-4E53-AD86-64D9292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918B-E4B6-4503-8AAD-EC7E4687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8585-AEB3-485C-8D4E-445FC524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EE71-A3D6-42DD-8443-2E085D88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425-CDD5-4572-B53B-ADBD894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1C0-5620-4214-9EA0-213589C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73D-31F6-404B-9E92-B86ED9A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96C-8D45-423D-9C7C-F7FBB1F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CC5-EFB3-4535-ADDF-B80A6BE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322-36B4-4E10-92FC-A7279269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5B5436-B540-4E2A-81E7-208CAFEC3C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53B699-9B87-4518-AE14-499EBF4045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A00D90-79AF-443A-9DC5-6B6AB069A5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ealthguide.howstuffworks.com/black-widow-spider-picture.htm" TargetMode="External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idow Enveno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Widow Sp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trodectus mact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5 cm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 spans 4-5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hourglass shape marking on abd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in woodpile, basements, garages, and sh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31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Black widow spider"/>
          <p:cNvPicPr/>
          <p:nvPr/>
        </p:nvPicPr>
        <p:blipFill>
          <a:blip r:embed="rId1"/>
          <a:stretch/>
        </p:blipFill>
        <p:spPr>
          <a:xfrm>
            <a:off x="4610160" y="1752480"/>
            <a:ext cx="438120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4495680" y="5410080"/>
            <a:ext cx="5181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ealthguide.howstuffworks.com/black-widow-spider-pictur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hophys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latrotox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toxic ve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on presynaptic calcium channels leading to release of neurotransmitters such as acetylcholine and norepinephr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s an excess stimulation of motor endpl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prick sen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pain that quickly spreads to include entire extre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 develops 20-60 min after b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7200" indent="-217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/3 develop a small &lt; 5mm erythematous mac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7200" indent="-217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/3 develop a “target les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tly muscle spasms develop which can progress to involve trunk, back, and abd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, tachycardia, headache, nausea, diarrhea, diaphoresis, photophobia, and dyspnea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6680" indent="-27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toms last for 24 hours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ve care ini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way, breathing, cir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wound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anus booster if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 and muscle spasm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iates and benzodiazep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um Gluconate may aid in symptomatic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venom for severe enveno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ve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trodectus antiv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d from horse s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develop serum sickness or anaphylax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ed for severe envenomations or certain patient 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Pediatrics, elderly, and pregnant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h, Sean P. "Spider Envenomation, Widow."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medic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20 Oct. 2010. Web. 5 Mar. 2011. &lt;http://emedicine.medscape.com/article/772196-overview&gt;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rk, Richard F. "Arthropod Bites and Stings."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mergency Medicine: A Comprehensive Study Gui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6th ed. New York: McGraw-Hill, 2004. 1195-196. Pri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ten, Edward J. "Venomous Animal Injuries."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osen's Emergency Medicine: Concepts and Clinical Practi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6th ed. Vol. 1. Philadelphia: Mosby Elsevier, 2006. 905-06. Pri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  <Words>353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18:38Z</dcterms:created>
  <dc:creator>Ryan</dc:creator>
  <dc:description/>
  <dc:language>en-US</dc:language>
  <cp:lastModifiedBy>Jason Seamon</cp:lastModifiedBy>
  <dcterms:modified xsi:type="dcterms:W3CDTF">2011-03-10T10:18:58Z</dcterms:modified>
  <cp:revision>5</cp:revision>
  <dc:subject/>
  <dc:title>Black Widow Enveno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